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glas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0D19-1852-46A7-A29D-3978411B89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CLEAR MAGNETIC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n ideal tool for Diagnosis &amp;     Drug Des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. HASEENA BAN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t.Professor,SriPadmavathi School of Pharmacy,Tiruchanoor,Tirup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IN PHARMACEUTICAL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ading technology for 3-D structure   determination of bio-macro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udying protein stru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 by NMR – Novel lead compou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 shift mapping – Structural information on the binding modes and sit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dynamics, conformational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–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 genomi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ing gene products in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s of drug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Novel drug delive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ing HTS ass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usands of com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ogenic NMR technology / cryop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Physics 1943, Ohostern, USA – Discovery of magnetic moment of 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in Physics 1952- IsidorJ. Rafi,USA – Discovery of new methods for nuclear magnetic pr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1991 – Felix Bloch, USA and Edward M. Purcell, USA – Methodology of high resolution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Chemistry 2002 – Kurt Wuthrich, Switzerland – Determining 3-D Structure by NM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Nobel Prize in Medicine 2003 – Paul C. Lauterbur, USA and Peter Mans field, U.K. – Discoveries concerning M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ING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APPLICATIONS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R Nobel prize lau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PRINCIPLE  IN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clei – tiny 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ernal magnetic field - allign or opp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rradiated with EMR of proper frequency – Reso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√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α β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shif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 lattice relaxa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 TECHNIQ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d o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13 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13  NMR &amp; P31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15  NMR &amp; O17 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W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T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D_NMR &amp;3D_N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SY _CORRELATION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I_MAGNETIC RESONANCE IM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R_ELECTRON SPIN RESONANCE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S OF NMR IN MEDICIN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NICAL APPLICATION OF PROTO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IN DIAGN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gray matter &amp; white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ing posterior fossae, brain stem, spinal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 demyelinating lesions, tumors,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morrhages, infar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bolic 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s liver iron over load in hemochroma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cal areas of inflammation in chronic active hepat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DN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tinguishing renal cortex &amp; med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evaluate transplanted  kidn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LV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erentiates between  Benign prostatic hyperplasia   &amp; prostatic carcin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ects bladder tum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ASTINUM, HILUM,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ing 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iratory g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mographic images of heart muscle, chambers, valvular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HO-PLANAR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crimination between infarcted, ischemic &amp; normal myocar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D-NMR &amp; single-slice planar imaging in detecting breast abnorm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SCULO SKELETAL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es Osteo  myelitis, tumor metastasis i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tebral bodies &amp; pelvic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mages of muscles, tendons, liga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VESSELS &amp; 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herosclerotic vascular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ess blood flow in major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SPECTR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shift phenome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nosis of rare disease to inborn errors-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c Ardle’s syndro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IVO Analysis of Bone flouride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 NMR  IMAGING INTO   PERSP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minates risk of x-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spatial &amp; contrast resol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cting diseases at earlier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97CB-C8C4-4DD7-9399-EB78DB3A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8D32-59B2-4B1A-9760-551822FC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8CB-F1B7-469A-9065-D25C7644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655-DB5A-46E7-967D-D6C13911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FA54-F071-4827-89C6-0758F02D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EE8B-E5A3-4253-A71F-2B7A93E5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0698-A14D-4661-A4C0-526104DA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78A4-71DA-4D45-80AF-BA1135B1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BA68-AE74-4D61-952C-2C1CCF59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120D-3EBC-4C8A-BC99-B3CC461A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C4F5-7BE5-4348-AAE0-C090F830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4D96-22CA-40F4-B8F1-6B9FA5A7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4ACF-9648-46A2-91A4-A2547C6F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ED08-EB57-4C99-947E-D14CB919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EE64-2812-4A31-B572-C64FB4B9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B8BD-BB40-492C-A046-EA22C5A4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4BA2-7F89-47A9-BBFA-7B229F839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25A24-873E-40A5-A621-50D5286DB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90DF0-3577-4FCB-B8F0-D812704B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FFDCC-10D7-4758-9503-D8E8B74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60DD7-3CC9-4E85-A6B9-F197647B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A25D8-C27C-4B55-81A9-71E56EEA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B65E-2384-4F5F-965B-C7C7F12A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0D65B-721D-4553-82D0-5BB49175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BABE1-E619-41CE-A13A-01AEC940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A7788-839D-40A9-A39C-96695415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2963D-50C7-4050-A6F9-FEE8A461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8A50A-0201-4EFE-8FFE-4CE8659D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5A204-A706-4165-97F1-EF462E11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AD94-DD6C-40A6-B199-7BA6F613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5E4365-E10E-4C81-9CDE-9F967F32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E08FA0-9826-4327-B876-A4F65808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9F6609-5F28-420D-A93C-4480F80E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11E7-3480-40A5-AA8D-0E07A571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3A0F0-D16B-4045-86C6-E8F635EC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C0997-D42C-4DCA-AC01-F57AD53A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A4EAE6-CF32-4648-AE85-83B541F1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FEAF2-2E71-43AE-8F2F-184DCB2B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D74A79-A28B-4060-A8C8-E6EE1A5F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57A128-6523-4EE0-965C-10C04160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1970BB-1664-426E-93C2-91C7FFC05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41731-003A-48FA-BC37-90E27344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7178FF-0FD2-4C6F-BF04-7EF35850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71B-A8BD-41BA-A273-4FEAC077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6EC0-E377-4C8D-9517-8DCB33E8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195-AA37-4E78-AB97-A83EFFAD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FA3-D8EA-462D-9C1F-ECBC3788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DA3-043A-4630-8454-73D35E7C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663-1B1A-46E6-903A-82D1EA8BE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7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9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0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81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2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83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0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68E8-4FFB-4B55-ADE6-FE02C2C0E3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8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8D15-DB92-463E-9996-4DDE34DF3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14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5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6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7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18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19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20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25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27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58DC-1EF7-43A9-ADFE-A6D6989B4E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685800" y="152280"/>
            <a:ext cx="777240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 u="sng">
                <a:solidFill>
                  <a:srgbClr val="43babd"/>
                </a:solidFill>
                <a:uFillTx/>
                <a:latin typeface="Arial"/>
              </a:rPr>
              <a:t>NUCLEAR MAGNETIC RESONANCE SPECTROSCOPY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762120" y="2438280"/>
            <a:ext cx="76197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-</a:t>
            </a: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an ideal tool for Diagnosis &amp;     Drug Desig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efb"/>
                </a:solidFill>
                <a:uFillTx/>
                <a:latin typeface="Arial"/>
              </a:rPr>
              <a:t>B. HASEENA BAN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efb"/>
                </a:solidFill>
                <a:latin typeface="Arial"/>
              </a:rPr>
              <a:t>Asst.Professor,SriPadmavathi School of Pharmacy,Tiruchanoor,Tirup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IN PHARMACEUTICAL RESEARCH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ading technology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for 3-D structure   determination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of bio-macromolec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udying protein structur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SAR by NMR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– Novel lead compound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 shift mapping – Structural information on the binding modes and site posi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olecular dynamics, conformational analys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HAP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MR – SOLV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ff"/>
                </a:solidFill>
                <a:latin typeface="Tahoma"/>
              </a:rPr>
              <a:t>Structural genomics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dentifying gene products in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argets of drug desig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Development of Novel drug delivery system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9900"/>
                </a:solidFill>
                <a:latin typeface="Tahoma"/>
              </a:rPr>
              <a:t>Enhancing HTS assay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ousands of compoun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ryogenic NMR technology / cryopr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NMR Nobel Prize Laureat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8377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4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hostern, USA – Discovery of magnetic moment of pro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in Physics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5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IsidorJ. Rafi,USA – Discovery of new methods for nuclear magnetic prec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199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Felix Bloch, USA and Edward M. Purcell, USA – Methodology of high resolution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Chemistry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Kurt Wuthrich, Switzerland – Determining 3-D Structure by NM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Nobel Prize in Medicine </a:t>
            </a:r>
            <a:r>
              <a:rPr b="0" lang="en-US" sz="2800" spc="-1" strike="noStrike">
                <a:solidFill>
                  <a:srgbClr val="3de158"/>
                </a:solidFill>
                <a:latin typeface="Tahoma"/>
              </a:rPr>
              <a:t>2003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Paul C. Lauterbur, USA and Peter Mans field, U.K. – Discoveries concerning MR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e12d6"/>
                </a:solidFill>
                <a:latin typeface="Arial"/>
              </a:rPr>
              <a:t>THANKING YOU</a:t>
            </a:r>
            <a:endParaRPr b="0" lang="en-US" sz="7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1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de158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INTRODUCTION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BASIC PRINCIPL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IFFERENT TECHNIQU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APPLICATIONS OF NMR IN MEDICINE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CLINICAL APPLICATIONS IN DIAGNOSI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DRUG DEVELOPMENT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 </a:t>
            </a:r>
            <a:r>
              <a:rPr b="0" lang="en-US" sz="3100" spc="-1" strike="noStrike">
                <a:solidFill>
                  <a:srgbClr val="2e12d6"/>
                </a:solidFill>
                <a:latin typeface="Tahoma"/>
              </a:rPr>
              <a:t>NMR Nobel prize laureates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4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bbd7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12d6"/>
                </a:solidFill>
                <a:latin typeface="Tahoma"/>
              </a:rPr>
              <a:t>BASIC PRINCIPLE  IN NM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omic nuclei – tiny magn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external magnetic field - allign or oppo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irradiated with EMR of proper frequency – Reson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√ 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l-GR" sz="2800" spc="-1" strike="noStrike">
                <a:solidFill>
                  <a:srgbClr val="ffffff"/>
                </a:solidFill>
                <a:latin typeface="Tahoma"/>
                <a:ea typeface="Arial"/>
              </a:rPr>
              <a:t>β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  <a:ea typeface="Arial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en-US" sz="2800" spc="-1" strike="noStrike">
                <a:solidFill>
                  <a:srgbClr val="2e12d6"/>
                </a:solidFill>
                <a:latin typeface="Tahoma"/>
                <a:ea typeface="Arial"/>
              </a:rPr>
              <a:t>PARAMET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Chemical shif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"/>
              </a:rPr>
              <a:t>Spin lattice relaxation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600" y="190080"/>
            <a:ext cx="8686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9900"/>
                </a:solidFill>
                <a:latin typeface="Arial"/>
              </a:rPr>
              <a:t>DIFFERENT TECHNIQUES</a:t>
            </a:r>
            <a:endParaRPr b="0" lang="en-US" sz="45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nuclei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3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P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31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5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 &amp; O</a:t>
            </a:r>
            <a:r>
              <a:rPr b="0" lang="en-US" sz="2200" spc="-1" strike="noStrike" baseline="30000">
                <a:solidFill>
                  <a:srgbClr val="ffffff"/>
                </a:solidFill>
                <a:latin typeface="Tahoma"/>
              </a:rPr>
              <a:t>17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W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T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D_NMR &amp;3D_NM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COSY _CORRELATION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RI_MAGNETIC RESONANCE IMAG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SR_ELECTRON SPIN RESONANCE SPECTROSCOP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2e12d6"/>
                </a:solidFill>
                <a:latin typeface="Arial"/>
              </a:rPr>
              <a:t>APPLICATIONS OF NMR IN MEDICINE</a:t>
            </a:r>
            <a:br>
              <a:rPr sz="4800"/>
            </a:b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09120" y="19807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AL APPLICATION OF PROT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IN DIAGN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BR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tinguishing gray matter &amp; white ma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maging posterior fossae, brain stem, spinal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 demyelinating lesions, tumors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rrhages, infar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ABDO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bolic liver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s liver iron over load in hemochromato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cal areas of inflammation in chronic active hepat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KIDNE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tinguishing renal cortex &amp; medu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o evaluate transplanted  kidne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PELV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iates between  Benign prostatic hyperplasia   &amp; prostatic carcino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tects bladder tum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MEDIASTINUM, HILUM, LUNG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Assessing 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ffffff"/>
                </a:solidFill>
                <a:uFillTx/>
                <a:latin typeface="Tahoma"/>
              </a:rPr>
              <a:t>Respiratory gating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HEAR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Tomographic images of heart muscle, chambers, valvular structur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ECHO-PLANAR TECHNIQUE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Discrimination between infarcted, ischemic &amp; normal myocardium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ff"/>
                </a:solidFill>
                <a:latin typeface="Tahoma"/>
              </a:rPr>
              <a:t>BREAST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ff"/>
              </a:buClr>
              <a:buSzPct val="65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Tahoma"/>
              </a:rPr>
              <a:t>3D-NMR &amp; </a:t>
            </a:r>
            <a:r>
              <a:rPr b="0" lang="en-US" sz="2500" spc="-1" strike="noStrike">
                <a:solidFill>
                  <a:srgbClr val="ffffff"/>
                </a:solidFill>
                <a:latin typeface="Tahoma"/>
              </a:rPr>
              <a:t>single-slice planar imaging in detecting breast abnormalities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15328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Tahoma"/>
              </a:rPr>
              <a:t>MUSCULO SKELETAL SYSTE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emonstrates Osteo  myelitis, tumor metastasis in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vertebral bodies &amp; pelvic bon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mages of muscles, tendons, ligamen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BLOOD VESSELS &amp; FLOW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herosclerotic vascular disease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ess blood flow in major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Tahoma"/>
              </a:rPr>
              <a:t>INVIVO SPECTROSCOP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hemical shift phenomen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agnosis of rare disease to inborn errors-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Mc Ardle’s syndrome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ff"/>
                </a:solidFill>
                <a:latin typeface="Tahoma"/>
              </a:rPr>
              <a:t>INVIVO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alysis of Bone flouride conten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433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261ce4"/>
                </a:solidFill>
                <a:latin typeface="Arial"/>
              </a:rPr>
              <a:t>PUTTING  NMR  IMAGING INTO   PERSPECTIVE</a:t>
            </a:r>
            <a:endParaRPr b="0" lang="en-US" sz="4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liminates risk of x-radi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cellent spatial &amp; contrast resolu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etecting diseases at earlier st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dissolve/>
    <p:sndAc>
      <p:stSnd>
        <p:snd r:embed="rId1" name="glas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06:39Z</dcterms:created>
  <dc:creator>Reddy</dc:creator>
  <dc:description>APPLICATIONS OF NMR IN MEDICINE</dc:description>
  <cp:keywords>APPLICATIONS OF NMR IN MEDICINE</cp:keywords>
  <dc:language>en-US</dc:language>
  <cp:lastModifiedBy>LEGION2</cp:lastModifiedBy>
  <dcterms:modified xsi:type="dcterms:W3CDTF">2016-01-14T10:46:12Z</dcterms:modified>
  <cp:revision>58</cp:revision>
  <dc:subject>APPLICATIONS OF NMR IN MEDICINE</dc:subject>
  <dc:title>APPLICATIONS OF NMR IN MEDICINE</dc:title>
</cp:coreProperties>
</file>